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EA5-4B33-44CE-93B1-1329B15E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47C-6E16-4BFA-BBA3-82E0B6F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CB8-8AF0-4652-BA09-653500C9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4B0-C6CC-461E-90E8-D3D55CEE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57E6-86A8-4949-9C09-47CEDB9F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7E6-CF82-4778-8219-51A512B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D4E5-91B2-4CA9-A959-68E891E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0ADC-94FC-49AC-BD4E-38FAEBA5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C3F2-B782-4F46-ABC1-3C75920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500-5F7F-4104-81C9-62ED352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5207-206F-4C54-8687-DAEF44F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13D-77AD-4FCE-BA0A-6DE3819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EFDC-92A0-4846-A185-A3D55D5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CCB-4850-408B-AC27-121E56E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101-9B4D-49A6-BDD4-0A93677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DB4-9C47-45BD-B037-5779B2C5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E0A-7733-4503-8068-B710FB70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78B-FD75-4535-B6AB-97ACE16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C2C-5262-489E-928E-8A46019A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3FB-9546-44D5-B2A8-97505BEE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3B7-7910-4E4A-A8E9-111AE51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11F-F717-4872-80C3-7896BB3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67B-2CAD-482C-B583-2ED0D996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74D-6F2B-4012-96A5-0F7338F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09F1-C6BE-4C50-97EB-959DEA96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E14-8D34-4BC7-9675-FB7A9662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Read You Write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tainers to hold definitions your students need to practice. One container for each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Read You Write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lass into small groups and give each group a container with vocabular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udent needs pencil a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ake turns reading the definitions to thei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rite the wor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get points for writing the correct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eams definitions to read.  They should answer with the correct word for a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4:14:25Z</dcterms:modified>
  <cp:revision>5</cp:revision>
  <dc:subject/>
  <dc:title>Phone A Friend A vocabulary game from Mentoring Minds</dc:title>
</cp:coreProperties>
</file>